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30e7d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67DFA-08DE-48C8-8681-8B34648A384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BC4E7-2D51-470D-8673-3F085036D94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9C267-9606-41C0-A7E4-0C380CD934E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B5B5C-40E4-408F-9BFC-02A62091DFE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81FBA-C160-4C0F-837E-A0D2B012265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787B0-D0C4-4692-BF06-B504ABD0A11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Text Box 4"/>
          <p:cNvSpPr/>
          <p:nvPr/>
        </p:nvSpPr>
        <p:spPr>
          <a:xfrm>
            <a:off x="1203480" y="46594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BA851-9732-4987-AEE0-F9BA848C457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Text Box 4"/>
          <p:cNvSpPr/>
          <p:nvPr/>
        </p:nvSpPr>
        <p:spPr>
          <a:xfrm>
            <a:off x="1203480" y="46594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537B7-07F1-4C30-B4AA-48CF27A659D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23A27-792F-4C79-8294-47FB62B146C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Text Box 4"/>
          <p:cNvSpPr/>
          <p:nvPr/>
        </p:nvSpPr>
        <p:spPr>
          <a:xfrm>
            <a:off x="1203480" y="46594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FA383-C81F-4AB4-A723-4E54D13478B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CB751-B198-4D42-BB57-0E532321DF5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063C0-3A7B-4311-8BA6-19343D785AC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57840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8270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8270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5784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5784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5784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82700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187280"/>
            <a:ext cx="777240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57840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1371600" y="85680"/>
            <a:ext cx="7772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KS 8C: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Calculate percent composition and empirical and molecular formula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30e7d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700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5" descr="PE_Anc_CopyrightLine_GS"/>
          <p:cNvPicPr/>
          <p:nvPr/>
        </p:nvPicPr>
        <p:blipFill>
          <a:blip r:embed="rId2"/>
          <a:stretch/>
        </p:blipFill>
        <p:spPr>
          <a:xfrm>
            <a:off x="8915400" y="1828800"/>
            <a:ext cx="93600" cy="32796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cd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" name="Picture 9" descr="PE_Anc_CopyrightLine_GS"/>
          <p:cNvPicPr/>
          <p:nvPr/>
        </p:nvPicPr>
        <p:blipFill>
          <a:blip r:embed="rId3"/>
          <a:stretch/>
        </p:blipFill>
        <p:spPr>
          <a:xfrm>
            <a:off x="8915400" y="1828800"/>
            <a:ext cx="93600" cy="32796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0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c515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" name="Picture 9" descr="top_arch2"/>
          <p:cNvPicPr/>
          <p:nvPr/>
        </p:nvPicPr>
        <p:blipFill>
          <a:blip r:embed="rId4"/>
          <a:stretch/>
        </p:blipFill>
        <p:spPr>
          <a:xfrm>
            <a:off x="0" y="0"/>
            <a:ext cx="9144000" cy="107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odore Roosevelt</a:t>
            </a:r>
            <a:r>
              <a:rPr b="1" lang="ja-JP" sz="28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 Administration</a:t>
            </a:r>
            <a:endParaRPr b="1" lang="en-US" sz="2800" spc="-1" strike="noStrike">
              <a:solidFill>
                <a:srgbClr val="130e7d"/>
              </a:solidFill>
              <a:latin typeface="Arial"/>
            </a:endParaRPr>
          </a:p>
        </p:txBody>
      </p:sp>
      <p:pic>
        <p:nvPicPr>
          <p:cNvPr id="52" name="Picture 6" descr="79034431"/>
          <p:cNvPicPr/>
          <p:nvPr/>
        </p:nvPicPr>
        <p:blipFill>
          <a:blip r:embed="rId1"/>
          <a:stretch/>
        </p:blipFill>
        <p:spPr>
          <a:xfrm>
            <a:off x="3429000" y="2590920"/>
            <a:ext cx="23097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AutoShape 6"/>
          <p:cNvSpPr/>
          <p:nvPr/>
        </p:nvSpPr>
        <p:spPr>
          <a:xfrm flipH="1" rot="10800000">
            <a:off x="838800" y="1499760"/>
            <a:ext cx="7391160" cy="2157480"/>
          </a:xfrm>
          <a:prstGeom prst="upArrowCallout">
            <a:avLst>
              <a:gd name="adj1" fmla="val 45745"/>
              <a:gd name="adj2" fmla="val 42363"/>
              <a:gd name="adj3" fmla="val 24505"/>
              <a:gd name="adj4" fmla="val 77709"/>
            </a:avLst>
          </a:prstGeom>
          <a:gradFill rotWithShape="0">
            <a:gsLst>
              <a:gs pos="0">
                <a:srgbClr val="cdcdff">
                  <a:alpha val="62352"/>
                </a:srgbClr>
              </a:gs>
              <a:gs pos="100000">
                <a:srgbClr val="e8eae9"/>
              </a:gs>
            </a:gsLst>
            <a:lin ang="162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1905120" y="1600200"/>
            <a:ext cx="6933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Roosevelt greatly expanded th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power of the presidency by pushing through reform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4724280" y="3778200"/>
            <a:ext cx="32004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He used the power of the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federal government on behalf of workers and the peopl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1371600" y="3778200"/>
            <a:ext cx="31240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His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 Square Dea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program promised fairness and honesty from government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ounded Rectangle 9"/>
          <p:cNvSpPr/>
          <p:nvPr/>
        </p:nvSpPr>
        <p:spPr>
          <a:xfrm>
            <a:off x="1219320" y="1447920"/>
            <a:ext cx="685800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dcdff">
                  <a:alpha val="62352"/>
                </a:srgbClr>
              </a:gs>
              <a:gs pos="100000">
                <a:srgbClr val="e8eae9"/>
              </a:gs>
            </a:gsLst>
            <a:lin ang="54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Text Box 2"/>
          <p:cNvSpPr/>
          <p:nvPr/>
        </p:nvSpPr>
        <p:spPr>
          <a:xfrm>
            <a:off x="1604880" y="1530360"/>
            <a:ext cx="5911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In 1902, Roosevelt threatened a federal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akeover of coal mines when owner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refused to compromise on hour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2057400" y="2971800"/>
            <a:ext cx="4952880" cy="21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This was the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first time the federal government had stepped into a labor dispute on the side of work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The Department of Commerce and Labor was established to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prevent capitalists from abusing their pow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4876920" y="1447920"/>
            <a:ext cx="3581280" cy="43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Elkins Act</a:t>
            </a:r>
            <a:r>
              <a:rPr b="0" lang="en-US" sz="1600" spc="-1" strike="noStrike">
                <a:solidFill>
                  <a:srgbClr val="0033cc"/>
                </a:solidFill>
                <a:latin typeface="Verdana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(1903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Allowed the government to fine railroads that gave special rates to favored shippers, a practice that hurt farm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  <a:ea typeface="Arial"/>
              </a:rPr>
              <a:t>Hepburn Act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(1906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Empowered the ICC to enforce limits on the prices charged by railroad companies for shipping, tolls, ferries, and pipeli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AutoShape 5"/>
          <p:cNvSpPr/>
          <p:nvPr/>
        </p:nvSpPr>
        <p:spPr>
          <a:xfrm flipH="1" rot="5400000">
            <a:off x="799920" y="1713960"/>
            <a:ext cx="3962520" cy="4191120"/>
          </a:xfrm>
          <a:prstGeom prst="upArrowCallout">
            <a:avLst>
              <a:gd name="adj1" fmla="val 26067"/>
              <a:gd name="adj2" fmla="val 18875"/>
              <a:gd name="adj3" fmla="val 12379"/>
              <a:gd name="adj4" fmla="val 41369"/>
            </a:avLst>
          </a:prstGeom>
          <a:gradFill rotWithShape="0">
            <a:gsLst>
              <a:gs pos="0">
                <a:srgbClr val="cdcdff"/>
              </a:gs>
              <a:gs pos="100000">
                <a:srgbClr val="e8eae9"/>
              </a:gs>
            </a:gsLst>
            <a:lin ang="108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62120" y="1981080"/>
            <a:ext cx="3200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Roosevelt also took on the railroads after the Supreme Court stripped the Interstate Commerce Commission</a:t>
            </a:r>
            <a:r>
              <a:rPr b="1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 authority to oversee rail rat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1"/>
          <p:cNvSpPr/>
          <p:nvPr/>
        </p:nvSpPr>
        <p:spPr>
          <a:xfrm>
            <a:off x="1219320" y="1676520"/>
            <a:ext cx="342900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Roosevelt was known as a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trustbuster.</a:t>
            </a:r>
            <a:r>
              <a:rPr b="1" lang="en-US" sz="2200" spc="-1" strike="noStrike">
                <a:solidFill>
                  <a:srgbClr val="0000ff"/>
                </a:solidFill>
                <a:latin typeface="Verdana"/>
                <a:ea typeface="Aria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He used the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Sherman Antitrust Act</a:t>
            </a:r>
            <a:r>
              <a:rPr b="0" lang="en-US" sz="2200" spc="-1" strike="noStrike">
                <a:solidFill>
                  <a:srgbClr val="0066cc"/>
                </a:solidFill>
                <a:latin typeface="Verdana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o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114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file suits against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what he saw as</a:t>
            </a:r>
            <a:br>
              <a:rPr sz="2200"/>
            </a:br>
            <a:r>
              <a:rPr b="0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bad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trusts, those that bullied small businesses o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cheated consumer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5029200" y="5562720"/>
            <a:ext cx="338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oosevelt using 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ti-trust soap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to clean an eagl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10" descr="C:\Users\Rachel\Desktop\Picture12.jpg"/>
          <p:cNvPicPr/>
          <p:nvPr/>
        </p:nvPicPr>
        <p:blipFill>
          <a:blip r:embed="rId1"/>
          <a:stretch/>
        </p:blipFill>
        <p:spPr>
          <a:xfrm>
            <a:off x="5181480" y="1447920"/>
            <a:ext cx="3222720" cy="40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4"/>
          <p:cNvSpPr/>
          <p:nvPr/>
        </p:nvSpPr>
        <p:spPr>
          <a:xfrm flipH="1" rot="5400000">
            <a:off x="1104120" y="952200"/>
            <a:ext cx="3200400" cy="4343400"/>
          </a:xfrm>
          <a:prstGeom prst="upArrowCallout">
            <a:avLst>
              <a:gd name="adj1" fmla="val 19798"/>
              <a:gd name="adj2" fmla="val 16667"/>
              <a:gd name="adj3" fmla="val 17574"/>
              <a:gd name="adj4" fmla="val 44184"/>
            </a:avLst>
          </a:prstGeom>
          <a:gradFill rotWithShape="0">
            <a:gsLst>
              <a:gs pos="0">
                <a:srgbClr val="ffc000">
                  <a:alpha val="50196"/>
                </a:srgbClr>
              </a:gs>
              <a:gs pos="100000">
                <a:srgbClr val="e8eae9"/>
              </a:gs>
            </a:gsLst>
            <a:lin ang="189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838080" y="1828800"/>
            <a:ext cx="2971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Roosevelt backed Progressive goals of protecting consumers by making the federal government responsible for food safet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023840" y="5241960"/>
            <a:ext cx="708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Today, the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Food and Drug Administration (FDA)</a:t>
            </a:r>
            <a:r>
              <a:rPr b="0" lang="en-US" sz="2000" spc="-1" strike="noStrike">
                <a:solidFill>
                  <a:srgbClr val="0066cc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tests and monitors the safety of food and medicin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4952880" y="1447920"/>
            <a:ext cx="350532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Aft>
                <a:spcPts val="20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  <a:ea typeface="Arial"/>
              </a:rPr>
              <a:t>Meat Inspection Ac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provided for federal inspections and monitoring of meat pla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20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  <a:ea typeface="Arial"/>
              </a:rPr>
              <a:t>Pure Food and Drug Ac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banned the interstate shipments of impure or mislabeled food or medicin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5"/>
          <p:cNvSpPr/>
          <p:nvPr/>
        </p:nvSpPr>
        <p:spPr>
          <a:xfrm flipH="1" rot="5400000">
            <a:off x="1257120" y="1942560"/>
            <a:ext cx="3048120" cy="4191120"/>
          </a:xfrm>
          <a:prstGeom prst="upArrowCallout">
            <a:avLst>
              <a:gd name="adj1" fmla="val 26067"/>
              <a:gd name="adj2" fmla="val 18875"/>
              <a:gd name="adj3" fmla="val 14857"/>
              <a:gd name="adj4" fmla="val 41369"/>
            </a:avLst>
          </a:prstGeom>
          <a:gradFill rotWithShape="0">
            <a:gsLst>
              <a:gs pos="0">
                <a:srgbClr val="cdcdff"/>
              </a:gs>
              <a:gs pos="100000">
                <a:srgbClr val="e8eae9"/>
              </a:gs>
            </a:gsLst>
            <a:lin ang="108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1033560" y="1523880"/>
            <a:ext cx="705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Roosevelt had a deep reverence for nature, which shaped his policie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914400" y="2971800"/>
            <a:ext cx="3124080" cy="19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As a Progressive, Roosevelt supported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  <a:ea typeface="Arial"/>
              </a:rPr>
              <a:t>Gifford Pinchot</a:t>
            </a:r>
            <a:r>
              <a:rPr b="1" lang="ja-JP" sz="2000" spc="-1" strike="noStrike">
                <a:solidFill>
                  <a:srgbClr val="ff0000"/>
                </a:solidFill>
                <a:latin typeface="Verdana"/>
                <a:ea typeface="Arial"/>
              </a:rPr>
              <a:t>’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  <a:ea typeface="Arial"/>
              </a:rPr>
              <a:t>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philosophy on the preservation of resources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4952880" y="2467080"/>
            <a:ext cx="3733920" cy="31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Pinchot felt that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resources should be managed and preserved for public u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Roosevelt also admired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  <a:ea typeface="Arial"/>
              </a:rPr>
              <a:t>John Muir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who helped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establish Yosemite National Park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and who advised him to set aside millions of acres of forestland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6781680" y="1600200"/>
            <a:ext cx="1905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Roosevelt closed off more than 100 million acres of forestlan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7" descr="ch17_maps_hsus_se_p0573"/>
          <p:cNvPicPr/>
          <p:nvPr/>
        </p:nvPicPr>
        <p:blipFill>
          <a:blip r:embed="rId1"/>
          <a:stretch/>
        </p:blipFill>
        <p:spPr>
          <a:xfrm>
            <a:off x="380880" y="1539720"/>
            <a:ext cx="6324840" cy="4286520"/>
          </a:xfrm>
          <a:prstGeom prst="rect">
            <a:avLst/>
          </a:prstGeom>
          <a:ln w="9360">
            <a:solidFill>
              <a:srgbClr val="666699"/>
            </a:solidFill>
            <a:miter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9" descr="Parchment2"/>
          <p:cNvPicPr/>
          <p:nvPr/>
        </p:nvPicPr>
        <p:blipFill>
          <a:blip r:embed="rId1">
            <a:lum bright="4000"/>
          </a:blip>
          <a:stretch/>
        </p:blipFill>
        <p:spPr>
          <a:xfrm>
            <a:off x="1114560" y="1219320"/>
            <a:ext cx="3914640" cy="49528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98"/>
          <p:cNvSpPr/>
          <p:nvPr/>
        </p:nvSpPr>
        <p:spPr>
          <a:xfrm>
            <a:off x="4773600" y="1627200"/>
            <a:ext cx="32004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his Act gave the federal government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power to distribute water</a:t>
            </a:r>
            <a:r>
              <a:rPr b="0" lang="en-US" sz="2200" spc="-1" strike="noStrike">
                <a:solidFill>
                  <a:srgbClr val="0066cc"/>
                </a:solidFill>
                <a:latin typeface="Verdana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in the arid west, effectively giving government the power to decide where and how water would be dispens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600200" y="2043000"/>
            <a:ext cx="28954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Another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example of the government</a:t>
            </a:r>
            <a:r>
              <a:rPr b="1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 expanded authority was the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National Reclamation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Act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of 1902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ounded Rectangle 3"/>
          <p:cNvSpPr/>
          <p:nvPr/>
        </p:nvSpPr>
        <p:spPr>
          <a:xfrm>
            <a:off x="1143000" y="2590920"/>
            <a:ext cx="6781680" cy="2971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000">
                  <a:alpha val="55294"/>
                </a:srgbClr>
              </a:gs>
              <a:gs pos="100000">
                <a:srgbClr val="e8eae9"/>
              </a:gs>
            </a:gsLst>
            <a:lin ang="13500000"/>
          </a:gradFill>
          <a:ln w="9360">
            <a:solidFill>
              <a:srgbClr val="ccccff"/>
            </a:solidFill>
            <a:miter/>
          </a:ln>
          <a:effectLst>
            <a:outerShdw dist="125751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371600" y="2819520"/>
          <a:ext cx="6172200" cy="2530440"/>
        </p:xfrm>
        <a:graphic>
          <a:graphicData uri="http://schemas.openxmlformats.org/drawingml/2006/table">
            <a:tbl>
              <a:tblPr/>
              <a:tblGrid>
                <a:gridCol w="914400"/>
                <a:gridCol w="5257800"/>
              </a:tblGrid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ft approved the Aldrich Act which did not lower tariffs as much as Roosevelt want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ft signed the Mann-Elkins Act, providing for federal control over telephone and telegraph rat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ft relaxed the hard line set by the Sherman Antitrust Ac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Text Box 3"/>
          <p:cNvSpPr/>
          <p:nvPr/>
        </p:nvSpPr>
        <p:spPr>
          <a:xfrm>
            <a:off x="457200" y="144792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In 1908, Roosevelt retired. But he soon disagreed with his successor William Howard Taft on several issu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1295280" y="3429000"/>
            <a:ext cx="7010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Taft believed that a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monopoly was acceptab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as long as it didn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t unreasonably squeeze out smaller compani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When Taft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fired Gifford Pinchot</a:t>
            </a:r>
            <a:r>
              <a:rPr b="0" lang="en-US" sz="2000" spc="-1" strike="noStrike">
                <a:solidFill>
                  <a:srgbClr val="0066cc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and overturned an earlier antitrust decision,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Roosevel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angrily decided to oppose Taft and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ran for president agai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Rounded Rectangle 9"/>
          <p:cNvSpPr/>
          <p:nvPr/>
        </p:nvSpPr>
        <p:spPr>
          <a:xfrm>
            <a:off x="1219320" y="1523880"/>
            <a:ext cx="685800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dcdff">
                  <a:alpha val="62352"/>
                </a:srgbClr>
              </a:gs>
              <a:gs pos="100000">
                <a:srgbClr val="e8eae9"/>
              </a:gs>
            </a:gsLst>
            <a:lin ang="54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1442880" y="1676520"/>
            <a:ext cx="6972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aft did not share Roosevelt</a:t>
            </a:r>
            <a:r>
              <a:rPr b="1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 views on trusts, but this was not the only area in which they disagre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4"/>
          <p:cNvSpPr/>
          <p:nvPr/>
        </p:nvSpPr>
        <p:spPr>
          <a:xfrm>
            <a:off x="1457280" y="444168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Rectangle 20"/>
          <p:cNvSpPr/>
          <p:nvPr/>
        </p:nvSpPr>
        <p:spPr>
          <a:xfrm>
            <a:off x="455760" y="1173240"/>
            <a:ext cx="7010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Objectiv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932040" y="2057400"/>
            <a:ext cx="767844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lnSpc>
                <a:spcPct val="110000"/>
              </a:lnSpc>
              <a:spcAft>
                <a:spcPts val="16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iscuss Theodore Roosevelt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 ideas on the role of governmen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110000"/>
              </a:lnSpc>
              <a:spcAft>
                <a:spcPts val="16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alyze how Roosevelt changed the government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 role in the econom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110000"/>
              </a:lnSpc>
              <a:spcAft>
                <a:spcPts val="16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plain the impact of Roosevelt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 actions on natural resourc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110000"/>
              </a:lnSpc>
              <a:spcAft>
                <a:spcPts val="16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pare and contrast Taft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 policies with Roosevelt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6"/>
          <p:cNvSpPr/>
          <p:nvPr/>
        </p:nvSpPr>
        <p:spPr>
          <a:xfrm flipH="1" rot="10800000">
            <a:off x="838800" y="2362320"/>
            <a:ext cx="7391160" cy="1752480"/>
          </a:xfrm>
          <a:prstGeom prst="upArrowCallout">
            <a:avLst>
              <a:gd name="adj1" fmla="val 52255"/>
              <a:gd name="adj2" fmla="val 45924"/>
              <a:gd name="adj3" fmla="val 24505"/>
              <a:gd name="adj4" fmla="val 76986"/>
            </a:avLst>
          </a:prstGeom>
          <a:gradFill rotWithShape="0">
            <a:gsLst>
              <a:gs pos="0">
                <a:srgbClr val="cdcdff">
                  <a:alpha val="62352"/>
                </a:srgbClr>
              </a:gs>
              <a:gs pos="100000">
                <a:srgbClr val="e8eae9"/>
              </a:gs>
            </a:gsLst>
            <a:lin ang="162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887400" y="1219320"/>
            <a:ext cx="736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Roosevelt promised to restore government trust-busting in a program he called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New Nationalism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1295280" y="4365720"/>
            <a:ext cx="6858000" cy="10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Roosevelt then accepted the nomination of the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Progressive Party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etting up a three-way race for the presidency in 1912.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Rectangle 17"/>
          <p:cNvSpPr/>
          <p:nvPr/>
        </p:nvSpPr>
        <p:spPr>
          <a:xfrm>
            <a:off x="1066680" y="251460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Roosevelt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 candidacy split the Republican Party, which nominated Taf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9"/>
          <p:cNvSpPr/>
          <p:nvPr/>
        </p:nvSpPr>
        <p:spPr>
          <a:xfrm>
            <a:off x="455760" y="1173240"/>
            <a:ext cx="7850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Terms and Peop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1066680" y="1905120"/>
            <a:ext cx="7620120" cy="40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Theodore Roosevelt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President who passed Progressive reforms and expanded the powers of the presidency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Square Deal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Roosevelt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 program to keep the wealthy and powerful from taking advantage of small business owners and the po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Hepburn Act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gave the Interstate Commerce Committee power to limit railroad company pri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Meat Inspection Act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gave federal agents power to inspect and monitor the meatpacking indust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9"/>
          <p:cNvSpPr/>
          <p:nvPr/>
        </p:nvSpPr>
        <p:spPr>
          <a:xfrm>
            <a:off x="455760" y="114300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Terms and People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(continue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Rectangle 13"/>
          <p:cNvSpPr/>
          <p:nvPr/>
        </p:nvSpPr>
        <p:spPr>
          <a:xfrm>
            <a:off x="1066680" y="1905120"/>
            <a:ext cx="7620120" cy="28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Pure Food and Drug Act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gave the federal government responsibility for insuring food and medicine are saf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John Muir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California naturalist who advocated for the creation of Yosemite National Par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Gifford Pinchot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forestry official who proposed managing the forests for later public u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3"/>
          <p:cNvSpPr/>
          <p:nvPr/>
        </p:nvSpPr>
        <p:spPr>
          <a:xfrm>
            <a:off x="1066680" y="1919160"/>
            <a:ext cx="7620120" cy="32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National Reclamation Act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gave the federal government power to decide where and how water would be distributed in arid western sta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New Nationalism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Roosevelt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 1912 plan to restore the government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 trust-busting pow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Progressive Party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political party that emerged from the Taft-Roosevelt battle that split the Republican Party in 191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455760" y="114300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Terms and People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(continue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1"/>
          <p:cNvSpPr/>
          <p:nvPr/>
        </p:nvSpPr>
        <p:spPr>
          <a:xfrm>
            <a:off x="1600200" y="144792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What did Roosevelt think government should do for citizens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Rectangle 12"/>
          <p:cNvSpPr/>
          <p:nvPr/>
        </p:nvSpPr>
        <p:spPr>
          <a:xfrm>
            <a:off x="1600200" y="2590920"/>
            <a:ext cx="6553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After a number of weak and ineffective Presidents, Theodore Roosevelt was a charismatic figure who ushered in a new era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Roosevelt passed Progressive reforms, expanded the powers of the presidency, and changed how Americans viewed the roles of the President and the governmen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524160" cy="55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ounded Rectangle 3"/>
          <p:cNvSpPr/>
          <p:nvPr/>
        </p:nvSpPr>
        <p:spPr>
          <a:xfrm>
            <a:off x="685800" y="1219320"/>
            <a:ext cx="7772400" cy="1447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dcdff">
                  <a:alpha val="62352"/>
                </a:srgbClr>
              </a:gs>
              <a:gs pos="100000">
                <a:srgbClr val="e8eae9"/>
              </a:gs>
            </a:gsLst>
            <a:lin ang="54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Rectangle 12"/>
          <p:cNvSpPr/>
          <p:nvPr/>
        </p:nvSpPr>
        <p:spPr>
          <a:xfrm>
            <a:off x="1143000" y="2895480"/>
            <a:ext cx="68580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Aft>
                <a:spcPts val="20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Shortly after graduation from Harvard in 1880, Roosevelt studied law at Columbia University. After a few months he was elected to the New York State Assembl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20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Three years later, following the deaths of his wife and mother, he retired to a ranch in the West. There he developed a love of the wildernes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20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Roosevelt had a reputation for being smart, opinionated, and extremely energeti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847800" y="1357200"/>
            <a:ext cx="761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In 1901, 43-year-old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Theodore Roosevelt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became the youngest president of the United States, rising quickly as a Progressive idealist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1"/>
          <p:cNvSpPr/>
          <p:nvPr/>
        </p:nvSpPr>
        <p:spPr>
          <a:xfrm>
            <a:off x="3733920" y="2666880"/>
            <a:ext cx="4876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Chosen by President McKinley to be Assistant Secretary of the Navy, he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resigned to organize the Rough Rider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at the start of the Spanish-American Wa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Rectangle 13"/>
          <p:cNvSpPr/>
          <p:nvPr/>
        </p:nvSpPr>
        <p:spPr>
          <a:xfrm>
            <a:off x="3733920" y="4876920"/>
            <a:ext cx="4343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He returned a war hero and was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elected Governor of New York</a:t>
            </a:r>
            <a:r>
              <a:rPr b="0" lang="en-US" sz="2000" spc="-1" strike="noStrike">
                <a:solidFill>
                  <a:srgbClr val="0066cc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in 1898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Rectangle 12"/>
          <p:cNvSpPr/>
          <p:nvPr/>
        </p:nvSpPr>
        <p:spPr>
          <a:xfrm>
            <a:off x="1093680" y="1219320"/>
            <a:ext cx="6934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In 1889 he returned, earning a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reputation for fighting corrup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on New York City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 Board of Police Commission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1" name="Picture 11" descr="79034431"/>
          <p:cNvPicPr/>
          <p:nvPr/>
        </p:nvPicPr>
        <p:blipFill>
          <a:blip r:embed="rId1"/>
          <a:stretch/>
        </p:blipFill>
        <p:spPr>
          <a:xfrm>
            <a:off x="1652760" y="2514600"/>
            <a:ext cx="230976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4"/>
          <p:cNvSpPr/>
          <p:nvPr/>
        </p:nvSpPr>
        <p:spPr>
          <a:xfrm flipH="1" rot="5400000">
            <a:off x="685440" y="1523880"/>
            <a:ext cx="4572000" cy="4267440"/>
          </a:xfrm>
          <a:prstGeom prst="upArrowCallout">
            <a:avLst>
              <a:gd name="adj1" fmla="val 18731"/>
              <a:gd name="adj2" fmla="val 15773"/>
              <a:gd name="adj3" fmla="val 16958"/>
              <a:gd name="adj4" fmla="val 44184"/>
            </a:avLst>
          </a:prstGeom>
          <a:gradFill rotWithShape="0">
            <a:gsLst>
              <a:gs pos="0">
                <a:srgbClr val="ffc000">
                  <a:alpha val="50196"/>
                </a:srgbClr>
              </a:gs>
              <a:gs pos="100000">
                <a:srgbClr val="e8eae9"/>
              </a:gs>
            </a:gsLst>
            <a:lin ang="189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5181480" y="1622520"/>
            <a:ext cx="2743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But, in 1901, William McKinley was assassinated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1066680" y="1600200"/>
            <a:ext cx="31244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s Governor, his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Progressive reforms upset Republican leaders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o get him out of New York, President McKinley agreed to make Roosevelt his running mate in 1900. They won easil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Text Box 129"/>
          <p:cNvSpPr/>
          <p:nvPr/>
        </p:nvSpPr>
        <p:spPr>
          <a:xfrm>
            <a:off x="5181480" y="2949480"/>
            <a:ext cx="32004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As President,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Roosevelt dominated Washington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He was so popular that even a toy, the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teddy bear,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was named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for him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6T15:26:32Z</dcterms:created>
  <dc:creator>Sam Lewbel</dc:creator>
  <dc:description/>
  <dc:language>en-US</dc:language>
  <cp:lastModifiedBy>Mark Scacewater</cp:lastModifiedBy>
  <cp:lastPrinted>2008-05-21T18:42:16Z</cp:lastPrinted>
  <dcterms:modified xsi:type="dcterms:W3CDTF">2012-09-30T20:34:21Z</dcterms:modified>
  <cp:revision>2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